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960-ABD5-40E9-A031-BC633D75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BEF-E856-4315-B69E-F0C23BC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548-A43F-4FEE-9E3A-A79B7BE6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04A-E4D7-4C94-AB8C-AD9B7CB7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95B0-26AF-4D23-B246-EE310BB1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035E-6BAC-4695-BF0C-C421F058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D09-D44C-4040-B54D-B170CF6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A6B2-8442-4E6F-8E0C-DA59DC2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DF3-C04B-49DF-AC84-AA7D6AB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7FB-5324-4D2D-9447-7FB11735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AC3-52AA-4649-A998-BDF087A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DC7-1D8D-4705-9BD6-CF77A455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7B3-E8EE-43B3-BAC5-836DE32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AB76-80C8-4A63-B26B-CD3B62E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C270-0216-48EB-8C48-92C4928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041-DB86-450B-B6B3-8F69B0A2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7B86-F525-4128-ACD9-F13D8644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F25-0CA0-46FA-93DE-750A791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CF6-BF86-4FA9-B9BD-1B12116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CD4-677D-4F54-9878-7A070B9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1E-EB27-4C7C-B223-0674A1B7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E13-417B-4A17-A264-37F9225F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0AF-EE7C-4EFC-9EE7-9CA161D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9D2-C229-4EE7-B840-B07C4EB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1893-0544-4EEE-9BF9-EB2C85806B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3B5-23B6-45DF-BA10-BFFEFCB964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παραλαμβανεν τα τεκνα και τ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ωξεν τον λαον αὐτου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preaching the good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γουσιν α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ffffff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νθρωπος ἁμαρτωλὸ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ροφήτη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στί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Οὐκ ἐπίστευσαν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 αὐτοῦ τοῦς ὀφθαλμοὺς ἡμεῖς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9-02-25T20:24:59Z</dcterms:modified>
  <cp:revision>45</cp:revision>
  <dc:subject/>
  <dc:title>Slide 1</dc:title>
</cp:coreProperties>
</file>